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213-9B63-4EF4-B5B1-112A29EF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DCA-60BC-4F52-B65C-09E9703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6F7-4C1B-41FA-B08C-C8228AFB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637-9BE3-447F-BCAC-28D0E4AF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9C0-A801-4C87-8339-B96927F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50F-77A8-4471-AF31-84F4FBF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284-F871-4F04-A2B6-1820309C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A38-37E6-49DB-AE26-428110D7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D30-6EEC-4E4F-889F-B6CD6969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7FD-AF3B-4E03-B948-0F91D1D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56A-FA62-48AA-9888-AC367C6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13F-64F8-445C-8DBC-3F506EC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E6BD-86A2-4216-B4C9-63482996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ntoring in the Community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tor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Di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07280" cy="604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-7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Amou is a young woman from Sudanese 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202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She is 22 and lives by herself, she has never lived in a city, but has caught on quickly working out public transport she wants to learn how the system work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16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She wants to keep improving her English and doesn’t know what work she wants to do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2161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he feels isolated and isn’t actively involved with the Sudanese community though she would like to 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96000" y="115920"/>
            <a:ext cx="1800360" cy="166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67640" y="108360"/>
            <a:ext cx="130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e has arrived on her own and her family is still in refugee camps in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050920" y="4076640"/>
            <a:ext cx="203220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156360" y="42926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1882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Mary has just moved to a new suburb and was a teacher for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12500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he is lonely and doesn’t know anyone in the local are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565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e has health needs and wants to stay in touch with her children who live in another state but doesn’t know how to use a comput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9736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She is feeling depressed about her life and feels like there is no purpose in her life anymo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508280"/>
            <a:ext cx="33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veryone around her is young participating in life and she feels invi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44800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51280" y="1125360"/>
            <a:ext cx="2160720" cy="136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72000" y="2637000"/>
            <a:ext cx="3600360" cy="172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627280" y="4581360"/>
            <a:ext cx="25401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156360" y="5445000"/>
            <a:ext cx="2286000" cy="11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lorence Dix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37:07Z</dcterms:created>
  <dc:creator>DELL</dc:creator>
  <dc:description/>
  <dc:language>en-US</dc:language>
  <cp:lastModifiedBy>DELL</cp:lastModifiedBy>
  <dcterms:modified xsi:type="dcterms:W3CDTF">2010-10-05T03:33:06Z</dcterms:modified>
  <cp:revision>3</cp:revision>
  <dc:subject/>
  <dc:title>Mentoring in the Community Mentor Scenarios</dc:title>
</cp:coreProperties>
</file>